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76A-ABBF-4BE0-B283-60FA0B20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0F6-C114-47A8-BEA9-7457FFB7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210-194C-405B-997C-D4FC9C5C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E2E-B894-40CC-8CB5-25C09EB0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51D8-B395-4C52-A5C0-93D69E0C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85FA-68C9-403D-9BF1-58BEE873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BFAB-5436-4AAF-AC55-50EF9182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90C0-FD84-4655-AD54-F8466879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35F3-7931-42AF-A24B-CB14E573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BF7F-EDB8-46F5-B230-FCE843E7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8F60-96D9-4F22-82ED-0AAF41AD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4FA-D4AF-4C6F-BB8A-500CBC2F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44DD-0A53-47B9-8106-7489C316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C1A1-FE4D-45FB-9CA0-C670FD07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1F81-0C4F-4081-8B4D-09043797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AA3D-AAF0-43D1-AECF-75C12CE0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F4BD-0F17-48FA-8B98-7FB1A96E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965-BAF3-4155-83D4-9053ADDE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EFC-A667-496A-B0D7-8E4DCF4E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CC5-3139-412A-8D41-9C2BF04C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609-41BB-413C-A500-3EAD6BE8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79E-8A6D-4541-9264-BCC5100A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B02-BB5E-4790-8302-02803708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73C-9005-424C-929A-4954DA04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4160-6A94-4437-9D98-E357BEC10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B0FE-5938-4582-B951-5E92A5FFE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48f"/>
                </a:solidFill>
                <a:latin typeface="Arial"/>
              </a:rPr>
              <a:t>Коллективизация - трагедия </a:t>
            </a:r>
            <a:br>
              <a:rPr sz="3600"/>
            </a:br>
            <a:r>
              <a:rPr b="1" lang="en-US" sz="3600" spc="-1" strike="noStrike">
                <a:solidFill>
                  <a:srgbClr val="ffa48f"/>
                </a:solidFill>
                <a:latin typeface="Arial"/>
              </a:rPr>
              <a:t>крестьянина-труженика ..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321300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втор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ряга Вероника Алексеев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ница 9 класса МОУ Верхнеуртуйская СО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антиновского района Амурской обл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уководители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лышева Елена Юрьевна, учитель истор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лошапко Инна Михайловна, учитель информа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4452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раскулачено 19 семей Саяпиных. Так 7 февраля 1930 года у Саяпина Мартына Андреевича было конфисковано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м из бревен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 крытый цинком           1=350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мбар крытый цинком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                        1=20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озия 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с придел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озия 2,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под цинком                          1=40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рятник под цинком                                   1=20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мбар лапас                                                1=15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мбар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под цинком                                1=15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имовье старое                                           1=3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имовье 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,5 м                                         1=7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гребец и кладовая                                   1=15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пас для лошадей                                     1=5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ня под цинком                                          1=7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тское зимовье лабаз                             1=25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зница цинковая                                        1=9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баз                                                            1=15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овой локомобиль с молотилкой и будкой 1=150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нейка со сноповязалкой                                1=15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нокосилка с граблями                                   2=75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евалка                                                        1=5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луг самолет                                                     1=3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луг козуля                                                        1=1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ртировка                                                        1=5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рона деревянная                                           7=21 руб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ребец серой  масти                                      1=5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была белая                                                    1=7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была бурая                                                    1=10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была рыжая                                                   1=10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была гнедая                                                  1=10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ребец серый   1,5года                                 1=4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ребец серый  6мес,                                     1=15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рова бурая                                     1=10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рова рябая                                     1=9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лка бурая                                       1=5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лка рябая                                       1=25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лка рябая                                       1=35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вец старых                                       6=42 руб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вец молодых                                    5=15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гнят                                                   4=2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рова бурая                                      1=10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ургон на железном ходу                  2=10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лега на деревянном  ходу             2=5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роба тележная                                3=15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роба от фургона                             1=15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ратайка                                           1=15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ней                                                  3=30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ани неисправные                         1=5 руб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мериканка                                     1=30 руб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ошевка                                           1=20 руб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Хомутов зимних с седелками        4=30 руб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Хомутов летних                              5=10 руб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уг                                                    3=6 руб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онтора                                            1=20 руб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Шерстобойка неисправная             1=15 руб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Часы стенные                                  1=5 руб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Шкаф                                                1=5 руб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еркало                                            1=2 руб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д раскулачивание попали и люди среднего достатка. Все они были выселены из сел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Тяжелым было становление колхоза в 1932 – 1933 годах. По стране прокатился страшный голод. Испытали его и наши сел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48f"/>
                </a:solidFill>
                <a:latin typeface="Arial"/>
              </a:rPr>
              <a:t>Первые жител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– 1935 годах увеличивается число жителей села и колхозников. Сюда из западных областей приезжают семьи красноармейцев, которые служили на Дальнем Востоке. Живут среди нас колхозники тех лет: Воробьева Мария Павловна, Воробьева Евдокия Федоровна, Умникова Мария Афанасьевна, Якименко Евдокия Петровна, Кошелев Петр Тихонович, Морозов Михаил Михайлович, Селезнева Мария Маркияновна, Матюхина Василина Маркияновна. В 1933 – 1935 годах увеличивается число жителей села и колхозников. Сюда из западных областей приезжают семьи красноармейцев, которые служили на Дальнем Востоке. Живут среди нас колхозники тех лет: Воробьева Мария Павловна, Воробьева Евдокия Федоровна, Умникова Мария Афанасьевна, Якименко Евдокия Петровна, Кошелев Петр Тихонович, Морозов Михаил Михайлович, Селезнева Мария Маркияновна, Матюхина Василина Маркиянов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ме первых колхозников сегодня среди нас потомки первых поселенцев, коренные жители села - Матвеев Валентин Федорович, Насонова Вера Федоров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48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04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оцесс коллективизации происходил мучительно для крестьянина-труженика. Под раскулачивание и расстрел попали не только очень зажиточные селяне, но и середняки. Все, кто из них остался жив, были выселены из сел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48f"/>
                </a:solidFill>
                <a:latin typeface="Arial"/>
              </a:rPr>
              <a:t>Основополагающий вопрос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25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изменялось село Верхний Уртуй в процессе коллективиза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8307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48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процесс коллективизации в селе Верхний Урту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1798" t="2396" r="2612" b="5517"/>
          <a:stretch/>
        </p:blipFill>
        <p:spPr>
          <a:xfrm>
            <a:off x="395280" y="3716280"/>
            <a:ext cx="388764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3280" y="292428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48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, как образовалось село Верхний Урту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, как проходила коллективизация с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воспоминания о первых жителях с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a48f"/>
                </a:solidFill>
                <a:latin typeface="Arial"/>
              </a:rPr>
              <a:t>Как образовалось село Верхний Уртуй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первые упоминание об Уртуе встречается в «Ведомости о количестве посеянных десятин яровых хлебов крестьянами Ивановского общества к 15 июня 1880 года», в  которой было обозначено с. Уртуй, где поживало всего 2 домохозяина: Кузьма Радченко, имевший двух бойцов и засевавший ярицы – 6 десятин, пшеницы – 4, овса – 2, проса-1.5, а также Кузьма Кечин, имевший в своей семье двух бойцов и засевавший ярицы – 3 десятины, пшеницы – 2, овса – 0.5, проса – 1, гречихи – 2 десятины. Это была, конечно, заимка, из которой в будущем возникло селение Верхний Урту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ревня Верхний Уртуй, в верховьях пади Уртуй, находится в 59 верстах от Благовещенска. Основана в 1890 году молоканами  из Самарской и Тамбовской губерний (38чел.+ 14 чел.). Переселенцы шли в Амурскую область за собственный счет без правительственной помощи. Средства для переселения они получали из ликвидации на Родине своего хозяйства и продажи своего имущ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893 году уже насчитывалось 10 дворов, жителей – 75 человек. Все жители – крестьяне молоканской веры. Было у этих селян во владении 1730 десятин земли, в точности под усадьбами 10 десятин, под покосами – 15 десятин, остальное – под пашнями и залежами. Скота содержали: лошадей – 184, рогатого скота – 170, волов – 12, овец – 380, один крестьянин имеет 15 уль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915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918 года открылся первый магазин, появилась частная школа. Учителя приезжали из Гильчина, так как своих не было. По статистике Российской империи село Верхний Уртуй входит в Гильчинскую вол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ень 1918 года. Грозные годы гражданской войны не обошли стороной и село В-Урту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сёлам Приамурье разъезжали карательные экспедиции из интервентов и белогвардейцев, которые творили кровавый суд и расправу над мирными жителями. Карательный отряд прошёл сёла Толстовку, Трамбовку, вышел на В - Уртуй и потом на Гильчин. Так как жители села сочувствовали советской власти, помогали Красной Армии – над ними тож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нили расправу. Много жителей погиб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сле гражданской войны крепнут хозяйства села. Так, в хозяйстве Саяпина Мартына Андреевича (он жил там, где теперь зерновой двор) было: дом из брёвен под цинком, три амбара, завозия, курятник, два зимовья, погреб и кладовая (которые и сейчас служат), два лабаза для лошадей, баня, скотное зимовьё, кузница, паровой локомобиль с молотилкой, жнейка со сноповязалкой, сенокосилка с граблями, рассевалка, плуги, сортировка, коней – 25, коров – 6, три тёлки, овец – 15 голов. Держали работник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аяпин Ефим Макарыч жил, где теперь баня и гараж. Имел мельницу, засевал 25 га земли, имел 40 лошадей, 6 коров, 8 овец, 7 сноповязалок. Держал в работниках китайце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 1928 года осуществляется курс на коллективизацию. Не обходит это движение и село В-Уртуй. Здесь создается комунна, а в начале 1930 года происходит ее распад. В марте 1930 года на территории села В-Уртуй организуется колхоз «Ключ к социализму». Первый председатель колхоза – Косицин Николай Васильевич. В годы репрессий был арестован и убит. В селе проживает его племянница Фатеева Галина Петров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же в тридцатом году в селе существуют партийная и комсомольская ячей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вый председатель сельского Совета – Спицына Надеж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зданию колхозов всячески вредили кулаки, те, кто лишился богатства. В 1930 году как по всей стране, так и нашем селе идет раскулачив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14320" y="3246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5:43:03Z</dcterms:created>
  <dc:creator>Comp1</dc:creator>
  <dc:description/>
  <dc:language>en-US</dc:language>
  <cp:lastModifiedBy>Жерноклеева Светлана Филипповна</cp:lastModifiedBy>
  <dcterms:modified xsi:type="dcterms:W3CDTF">2010-01-28T09:36:35Z</dcterms:modified>
  <cp:revision>11</cp:revision>
  <dc:subject/>
  <dc:title>Коллективизация, трагедия крестьянина труженика. </dc:title>
</cp:coreProperties>
</file>